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9.jpeg" ContentType="image/jpeg"/>
  <Override PartName="/ppt/media/image20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552-0AC6-43B9-AE26-628EA92E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4DD-2367-441A-B068-915BA449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61B-B9A2-4E67-B626-38524530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E0C-06AF-4E9E-9453-39E0EA04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3CB4-FA71-476E-AEE1-A45097B6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8F8-12B1-4E9E-859C-97D5BC93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15E5-2629-44AD-A63A-5A8C4DC7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7DAD-AE76-4064-9E8A-87D40AB1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F948-FA07-4201-9CA8-8DAE204F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B5CC-8748-4C7C-9EF0-927B1627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A3AC-3E68-4F3B-BB24-F185652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02F-B7F6-4C21-A71E-C82239A3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D027-1686-4213-998E-79641867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4FAD-772A-4996-B1B9-C0FC4B27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33D0-C51C-4575-9D02-61FF1D1D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B48F-9FD1-4814-A8C7-1F9BEFB6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B86E-7BBC-4B0D-B743-8A4042ED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E625C-CD34-4D28-9B91-0EA5157A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AD8B-2318-4C75-B81C-9FA6753C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D145-989A-45A0-8D56-D9E0F191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B702-D904-4C17-B4CE-62082650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55A4-9482-47E7-BACE-38EC09A5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CAC-27CE-47D6-AE76-8761DBBD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6017-288E-481A-A365-A2D40D69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698A-F83E-4B6F-901E-32105DFE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760D-8A04-400C-8C6D-F15E3560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9E8C2-10FF-472A-B9CC-CFD16780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3DAF-3222-44C9-879E-272063DD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8FF1-0363-495D-8D3C-71D66341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E6FC-495C-438D-8139-353C1FAB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62E-40A9-4A5D-8F7B-A3D6769A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A10-04B6-4F54-8FB0-F180F452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968-FCA0-471F-BD29-4EDA8EC4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D4B-1DC4-4663-B135-95A708FC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586-FC88-4AFA-B067-A2150BB6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E3D-E0CC-4C4A-AD62-F0D6A45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4FA6-ED28-440C-9E7B-C7BA2B9B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15DA-9353-451F-9A5B-1191DB4F6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8CDC-D12A-4EB7-9999-92545B9D5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CHAIKOVSKY-THE_SLEEPING_BEAUTY-WALTZ.wav" TargetMode="External"/><Relationship Id="rId2" Type="http://schemas.microsoft.com/office/2007/relationships/media" Target="file:///tmp/home/.config/libreoffice/4/user/gallery/TCHAIKOVSKY-THE_SLEEPING_BEAUTY-WALTZ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9640" y="404640"/>
            <a:ext cx="8209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MEDII  DE  VIAŢ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0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3284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-1035000"/>
            <a:ext cx="5940360" cy="4456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635280" y="3276720"/>
            <a:ext cx="5508720" cy="3581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6400" y="1989000"/>
            <a:ext cx="4619520" cy="13129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na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păduri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de stejar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130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lci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,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ierm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ăianjeni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şi alt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secte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roa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şte,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şopârl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ş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rp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cuc, vulpe</a:t>
            </a: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căprioară etc</a:t>
            </a: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9080" y="333360"/>
            <a:ext cx="196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ădaş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68720" y="6021360"/>
            <a:ext cx="1264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i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6520" y="2637000"/>
            <a:ext cx="23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mand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836640"/>
            <a:ext cx="720720" cy="504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51640" y="2708280"/>
            <a:ext cx="505080" cy="21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451640" y="2565000"/>
            <a:ext cx="73080" cy="358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164360" y="6093000"/>
            <a:ext cx="503280" cy="288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332748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420360" y="3573360"/>
            <a:ext cx="1241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ul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58920" y="4076640"/>
            <a:ext cx="1152360" cy="100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4076640"/>
            <a:ext cx="1942920" cy="1152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77440" y="189000"/>
            <a:ext cx="22395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ăprioar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131640" y="765000"/>
            <a:ext cx="1295640" cy="93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765000"/>
            <a:ext cx="1584360" cy="1008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" y="2610000"/>
            <a:ext cx="87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ăspândite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la d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munte, l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altitudini mai mici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 versanţi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umbriţi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 altitudini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mai mari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 versanţii însoriţ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640" y="404640"/>
            <a:ext cx="534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6600"/>
                </a:solidFill>
                <a:uFillTx/>
                <a:latin typeface="Arial"/>
              </a:rPr>
              <a:t>Păduril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de fag</a:t>
            </a:r>
            <a:r>
              <a:rPr b="1" lang="ro-RO" sz="6000" spc="-1" strike="noStrike" u="sng">
                <a:solidFill>
                  <a:srgbClr val="ffff00"/>
                </a:solidFill>
                <a:uFillTx/>
                <a:latin typeface="Arial"/>
              </a:rPr>
              <a:t> - 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făge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127920" y="0"/>
            <a:ext cx="3016080" cy="4076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226560" y="0"/>
            <a:ext cx="221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 Black"/>
              </a:rPr>
              <a:t>- jir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fructul fag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4000" y="692280"/>
            <a:ext cx="8820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rbori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g, mesteacă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ltin, carpe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lm de mu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lid, bra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06880" y="61848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răguţ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0" y="1341360"/>
            <a:ext cx="3015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rbuşt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un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ur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rn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4000" y="1700280"/>
            <a:ext cx="2300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mure- fruc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mur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363640" y="907560"/>
            <a:ext cx="1079640" cy="1008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284360" y="1916280"/>
            <a:ext cx="2158920" cy="1728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9560" y="836640"/>
            <a:ext cx="49658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lante erbac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rigă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şchi, licheni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erea-ursului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ăiu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ş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iuperci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6692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1989000"/>
            <a:ext cx="795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9900"/>
                </a:solidFill>
                <a:latin typeface="Arial"/>
              </a:rPr>
              <a:t>diferite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ecte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993300"/>
                </a:solidFill>
                <a:latin typeface="Arial"/>
              </a:rPr>
              <a:t>şopârl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şerpi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aiţ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uhurez</a:t>
            </a: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760" y="404640"/>
            <a:ext cx="416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nimale</a:t>
            </a:r>
            <a:r>
              <a:rPr b="1" lang="ro-RO" sz="6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6880" y="6093000"/>
            <a:ext cx="28890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ărăbuş de pă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12720" y="520236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oc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ito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356000" y="3500280"/>
            <a:ext cx="4788000" cy="3357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3516480"/>
            <a:ext cx="4319640" cy="334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530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-468360" y="3500280"/>
            <a:ext cx="2227320" cy="3357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82160" y="1197000"/>
            <a:ext cx="39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b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der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isică salbatic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9640" y="400536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veveriţă</a:t>
            </a: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05800" y="621648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viez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440" y="357336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â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65080" y="0"/>
            <a:ext cx="1985040" cy="642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istre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780000" y="549360"/>
            <a:ext cx="1008000" cy="79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549360"/>
            <a:ext cx="1297080" cy="863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3700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139920"/>
            <a:ext cx="5904000" cy="371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516640" y="3141720"/>
            <a:ext cx="3627360" cy="3716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2520" y="3716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l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0" y="-243000"/>
            <a:ext cx="4248000" cy="3384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141440" y="4762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c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995280" y="1125360"/>
            <a:ext cx="863640" cy="57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1125360"/>
            <a:ext cx="792360" cy="64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132000" y="4292640"/>
            <a:ext cx="136872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4292640"/>
            <a:ext cx="122364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checker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0" y="2205000"/>
            <a:ext cx="9144000" cy="365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PĂDU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124000" y="260280"/>
            <a:ext cx="4894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6600"/>
                </a:solidFill>
                <a:latin typeface="Arial"/>
              </a:rPr>
              <a:t>Păduril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6600"/>
                </a:solidFill>
                <a:latin typeface="Arial"/>
              </a:rPr>
              <a:t>de conifer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6600"/>
                </a:solidFill>
                <a:latin typeface="Arial"/>
              </a:rPr>
              <a:t>(răşinoase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0880" y="3573360"/>
            <a:ext cx="692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numite dup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fructul arborilor – </a:t>
            </a:r>
            <a:r>
              <a:rPr b="1" lang="ro-RO" sz="4400" spc="-1" strike="noStrike">
                <a:solidFill>
                  <a:srgbClr val="00ffff"/>
                </a:solidFill>
                <a:latin typeface="Arial"/>
              </a:rPr>
              <a:t>con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ff"/>
                </a:solidFill>
                <a:latin typeface="Arial"/>
              </a:rPr>
              <a:t>răşina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secretată – cu 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prote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-388800"/>
            <a:ext cx="9144000" cy="7246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880" y="2128680"/>
            <a:ext cx="9190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în </a:t>
            </a: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regiunile înalte ale munţilor</a:t>
            </a: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 la limita superioară a fagulu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ână în zona subalpină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- 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Pe pantele umbroase (nordi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ale dealurilor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33336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rbori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9900"/>
                </a:solidFill>
                <a:latin typeface="Arial"/>
              </a:rPr>
              <a:t>conifere: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- brad,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molid,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zadă, pin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foioase: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ag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steacă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ltin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5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46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500720" y="3409920"/>
            <a:ext cx="4643280" cy="344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3417840"/>
            <a:ext cx="4572000" cy="3440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20" y="-58680"/>
            <a:ext cx="329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rbuşti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2720" y="1150920"/>
            <a:ext cx="1703160" cy="520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- meriş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5800" y="4365720"/>
            <a:ext cx="1031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22160" y="3645000"/>
            <a:ext cx="1585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acă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876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861080" y="309600"/>
            <a:ext cx="1933200" cy="642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zm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00720" y="-4680"/>
            <a:ext cx="4643280" cy="3475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19640" cy="3471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4427640" y="3468600"/>
            <a:ext cx="4716360" cy="3389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79280" y="357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ş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94720" y="5818320"/>
            <a:ext cx="221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- ciuper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33360"/>
            <a:ext cx="165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-ferig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6880" y="306360"/>
            <a:ext cx="1905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- liche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48000" y="2994120"/>
            <a:ext cx="57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50920" y="134136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în general mamifere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- cerb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1360" y="260280"/>
            <a:ext cx="456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animale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5240" y="191628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- ciut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84720" y="2565360"/>
            <a:ext cx="7164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975040"/>
            <a:ext cx="5076720" cy="38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H="1">
            <a:off x="2124000" y="2708280"/>
            <a:ext cx="287280" cy="165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79240" y="47628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urs b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1280" y="580536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- ursoaică cu p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067280" y="-171360"/>
            <a:ext cx="5076720" cy="3814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-252360" y="-216000"/>
            <a:ext cx="4537080" cy="3892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50920" y="234936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- acvilă de mu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29640" y="2349360"/>
            <a:ext cx="22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co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 mu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727680" y="3645000"/>
            <a:ext cx="2416320" cy="3213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0" y="3659040"/>
            <a:ext cx="3348000" cy="3198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213440" y="4149720"/>
            <a:ext cx="11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j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203640" y="4797360"/>
            <a:ext cx="180000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4797360"/>
            <a:ext cx="180036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98520" y="476280"/>
            <a:ext cx="27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veveriţ</a:t>
            </a:r>
            <a:r>
              <a:rPr b="1" lang="ro-RO" sz="4000" spc="-1" strike="noStrike">
                <a:solidFill>
                  <a:srgbClr val="ff9900"/>
                </a:solidFill>
                <a:latin typeface="Arial"/>
              </a:rPr>
              <a:t>ă;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960" y="1628640"/>
            <a:ext cx="65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piţigoi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ciocănitoare, mierl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6880" y="2565360"/>
            <a:ext cx="397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ârl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e, şerpi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240" y="3500280"/>
            <a:ext cx="32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nsecte</a:t>
            </a:r>
            <a:r>
              <a:rPr b="1" lang="ro-RO" sz="4000" spc="-1" strike="noStrike">
                <a:solidFill>
                  <a:srgbClr val="ff3300"/>
                </a:solidFill>
                <a:latin typeface="Arial"/>
              </a:rPr>
              <a:t>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50920" y="907920"/>
            <a:ext cx="8356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Pădurea pierde tot mai mul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teren datorit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exploatării necontrolat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extinderii zonelor de locu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şi a suprafeţelor agricol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inconştienţei noast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incendii, poluare, ploi a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defrişări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9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2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91440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6600" spc="-1" strike="noStrike" u="sng">
                <a:solidFill>
                  <a:srgbClr val="ffff00"/>
                </a:solidFill>
                <a:uFillTx/>
                <a:latin typeface="Arial"/>
              </a:rPr>
              <a:t>Pădurea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rafaţă mare de teren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c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reuneşte plante (floră spontan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şi animale sălbatice, leg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între ele prin lanţul trofi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bori şi arbuş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te erbacee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şi cu flori;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uşchi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ferite specii de animale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sălbatic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60" y="2276640"/>
            <a:ext cx="86965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cuprind arbori cu frunze căzăto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(care îşi scutură frunzele toamna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la câmpie, la deal, la poalele ş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pe pantele însorite ale munţilor</a:t>
            </a:r>
            <a:r>
              <a:rPr b="1" lang="ro-RO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salcâm, tei, carpen, stejar, goru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frasin, ulm, fag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etc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mai luminoase decât cele de conifer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320" y="836640"/>
            <a:ext cx="786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Pădurile de foioa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404640"/>
            <a:ext cx="643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În păduri</a:t>
            </a: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le de foioas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</a:t>
            </a: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es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492280"/>
            <a:ext cx="975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up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vulp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căprioar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treţ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jder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veveriţ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sica sălbatică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turz, mierl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 cuc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iocănitoare, gai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iţigoi, sticlete ş.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8040" y="3789360"/>
            <a:ext cx="836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Se găsesc la câmpie şi d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 sunt luminoas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4880" y="620640"/>
            <a:ext cx="637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6600"/>
                </a:solidFill>
                <a:uFillTx/>
                <a:latin typeface="Arial"/>
              </a:rPr>
              <a:t>Pădurile d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 u="sng">
                <a:solidFill>
                  <a:srgbClr val="ff6600"/>
                </a:solidFill>
                <a:uFillTx/>
                <a:latin typeface="Arial"/>
              </a:rPr>
              <a:t>s</a:t>
            </a:r>
            <a:r>
              <a:rPr b="1" lang="en-US" sz="6600" spc="-1" strike="noStrike" u="sng">
                <a:solidFill>
                  <a:srgbClr val="ff6600"/>
                </a:solidFill>
                <a:uFillTx/>
                <a:latin typeface="Arial"/>
              </a:rPr>
              <a:t>tejar</a:t>
            </a:r>
            <a:r>
              <a:rPr b="1" lang="ro-RO" sz="6600" spc="-1" strike="noStrike" u="sng">
                <a:solidFill>
                  <a:srgbClr val="ff6600"/>
                </a:solidFill>
                <a:uFillTx/>
                <a:latin typeface="Arial"/>
              </a:rPr>
              <a:t>- stejăre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640560" y="0"/>
            <a:ext cx="2503440" cy="2781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02200" y="2205000"/>
            <a:ext cx="217404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00"/>
                </a:solidFill>
                <a:latin typeface="Arial"/>
              </a:rPr>
              <a:t>ghind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00"/>
                </a:solidFill>
                <a:latin typeface="Arial"/>
              </a:rPr>
              <a:t>fructul steja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206064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meroase plante erbacee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şi cu flor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golomăţ, păiuş</a:t>
            </a: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ghioce</a:t>
            </a: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viorel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violete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2920" y="333360"/>
            <a:ext cx="731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egetaţia păduril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de stejar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4284720" cy="371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22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189000"/>
            <a:ext cx="5796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arbuşti</a:t>
            </a:r>
            <a:r>
              <a:rPr b="1" lang="ro-RO" sz="48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eş, păducel, soc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lemn câinesc, cor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porumbar, gherghina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5120" y="2565360"/>
            <a:ext cx="2500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- porumbe- fruc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umbar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360" y="5805360"/>
            <a:ext cx="28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- mă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eş</a:t>
            </a: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fructele măceş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60280" y="5902200"/>
            <a:ext cx="265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- coarn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ructele corn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11280" y="2781360"/>
            <a:ext cx="792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arbori :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pen, ulm, tei, fras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ltin, arţar,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salcâ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reş sălbatic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57:45Z</dcterms:created>
  <dc:creator>user</dc:creator>
  <dc:description/>
  <dc:language>en-US</dc:language>
  <cp:lastModifiedBy>IULIA</cp:lastModifiedBy>
  <dcterms:modified xsi:type="dcterms:W3CDTF">2009-11-11T17:05:38Z</dcterms:modified>
  <cp:revision>202</cp:revision>
  <dc:subject/>
  <dc:title>Slide 1</dc:title>
</cp:coreProperties>
</file>